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CC78-9662-40FD-BA29-C7A0559ED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A110-9420-4FEC-A33A-62D69FF43FF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42A8-8A21-42EA-82A9-80EEE47C3F9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29D-E0BD-406F-A21D-624051E71BC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74D5-EE78-49A5-A689-70122733A52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E344-F94F-487A-9BA1-C4EDBC53DD8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E59-1CBC-437A-9922-CCBAC88E172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CE10-60C0-4BD2-B499-A268339C689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B727-55E4-475F-9553-54C213B9127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F7E2-010F-458E-85F7-29962A31EC9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768-B5F1-4BF2-9AB4-873301EC11F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5B37-D3C3-4125-8DE5-81A471EE04C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685B-6167-41B3-A5C0-C79003580A7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D918-F4C8-4B50-A579-2E714FAF738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CAA4-7787-45D2-9F2B-1DFC9CE9F21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C3B8-6EA4-443A-A84E-EC302ADA4EA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752-5438-49B5-9BBF-CD034126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63C-DD3B-4AE9-A41D-175A999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E9B-5C1D-41FA-9607-546DAE70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39A-2693-430C-AC64-7C99D6D0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23A3-D7D2-4552-8064-A8B22A83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C6B9-6E8D-48BC-BC17-048BF5C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ECE6-4297-41DB-B51D-F67B2157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0F47-57DC-46B1-A94E-366A0C8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F08C-346E-47E8-A02D-EE51D440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F1D5-560F-4577-8FC9-11E6F6CA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7F05-4755-460F-B692-E00B48B3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286-B4CF-46D0-AABD-60226123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FFA-A681-4508-B1E2-8FCCBA7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5066-C9A7-407D-ABE9-6910D24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2A27-71EC-4873-9D2D-F0165F7A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66A2-053C-4C34-B2A6-474BC293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F33-29F7-4EEC-85B0-6377EC29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731-DC28-420F-BFAE-42C1D137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F90-7F8D-409C-851D-321A076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1D6-51AF-4C08-855A-6347790A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1B2-28F6-4387-8AA2-BB8F7D08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F2B-53B5-4981-B504-59BAF64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334-AF4E-4E11-B082-362A8FE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0C1-60B9-4315-AB18-BBAFCC5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38AF-054B-4721-8BB3-25D420B67A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1969-30BD-4BDD-BD2E-A06ED5F8BA4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Process Essa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tion: identifies the process and indicates why and under what circumstances it is perform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cludes the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roduces whatever materials or preliminary steps may be need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buckeyb"/>
          <p:cNvPicPr/>
          <p:nvPr/>
        </p:nvPicPr>
        <p:blipFill>
          <a:blip r:embed="rId1"/>
          <a:stretch/>
        </p:blipFill>
        <p:spPr>
          <a:xfrm>
            <a:off x="2209680" y="0"/>
            <a:ext cx="914400" cy="89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ome"/>
          <p:cNvPicPr/>
          <p:nvPr/>
        </p:nvPicPr>
        <p:blipFill>
          <a:blip r:embed="rId2"/>
          <a:stretch/>
        </p:blipFill>
        <p:spPr>
          <a:xfrm>
            <a:off x="5562720" y="4800600"/>
            <a:ext cx="15285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, co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3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dy of es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major stage of the process in each body paragrap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stage may involve several step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5" descr="dipsea-steps"/>
          <p:cNvPicPr/>
          <p:nvPr/>
        </p:nvPicPr>
        <p:blipFill>
          <a:blip r:embed="rId1"/>
          <a:stretch/>
        </p:blipFill>
        <p:spPr>
          <a:xfrm>
            <a:off x="7162920" y="2438280"/>
            <a:ext cx="174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, co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mal 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 not be necessary in very short, simple process ess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iefly reviews the procedure’s major st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inforces the thesis by summarizing the results of the process, or explaining its significa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vising Checklist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assignment call for a set of instructions or a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writing style clearly and consistently indicate whether you are writing a set of instructions or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essay have a clearly stated thesis that identifies the process and perhaps tells why it is (or was) perform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reminders and cautio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step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 steps presented in strict chronological order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 transitions clearly indicate where one step ends and the next begi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 Class Process Writing Exerci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9" descr="catolantern1"/>
          <p:cNvPicPr/>
          <p:nvPr/>
        </p:nvPicPr>
        <p:blipFill>
          <a:blip r:embed="rId1"/>
          <a:stretch/>
        </p:blipFill>
        <p:spPr>
          <a:xfrm>
            <a:off x="5105520" y="1371600"/>
            <a:ext cx="3595680" cy="44974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1"/>
          <p:cNvSpPr/>
          <p:nvPr/>
        </p:nvSpPr>
        <p:spPr>
          <a:xfrm>
            <a:off x="380880" y="1828800"/>
            <a:ext cx="38862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ok at the photograph to the right. How is this jack-o’-lantern different from the pumpkin from which it was carve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ist the steps involved in the process of carving a pumpkin into a jack-o’-lantern. Where dies the process begin?  Where does it en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cautions and reminders might be helpful to someone who has never made a jack-o’-lantern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13" descr="pumpkins"/>
          <p:cNvPicPr/>
          <p:nvPr/>
        </p:nvPicPr>
        <p:blipFill>
          <a:blip r:embed="rId2"/>
          <a:stretch/>
        </p:blipFill>
        <p:spPr>
          <a:xfrm>
            <a:off x="1447920" y="5334120"/>
            <a:ext cx="1557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urnal En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62156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set of instructions for someone who has never made a jack-o’-lantern.  Using commands and present tense, explain each step in the order in which it occurs, including all necessary cautions and remind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4" descr="pumpkins"/>
          <p:cNvPicPr/>
          <p:nvPr/>
        </p:nvPicPr>
        <p:blipFill>
          <a:blip r:embed="rId1"/>
          <a:stretch/>
        </p:blipFill>
        <p:spPr>
          <a:xfrm>
            <a:off x="457200" y="43434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catolantern1"/>
          <p:cNvPicPr/>
          <p:nvPr/>
        </p:nvPicPr>
        <p:blipFill>
          <a:blip r:embed="rId2"/>
          <a:stretch/>
        </p:blipFill>
        <p:spPr>
          <a:xfrm>
            <a:off x="6600960" y="3886200"/>
            <a:ext cx="2071440" cy="2590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46027-demonstrating-jack-o-lantern-making-shanghai-china"/>
          <p:cNvPicPr/>
          <p:nvPr/>
        </p:nvPicPr>
        <p:blipFill>
          <a:blip r:embed="rId3"/>
          <a:stretch/>
        </p:blipFill>
        <p:spPr>
          <a:xfrm>
            <a:off x="3962520" y="3962520"/>
            <a:ext cx="1931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 proc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explains how to do something or how something occu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obvious example of process writing is a reci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7" descr="MCj02334390000[1]"/>
          <p:cNvPicPr/>
          <p:nvPr/>
        </p:nvPicPr>
        <p:blipFill>
          <a:blip r:embed="rId1"/>
          <a:stretch/>
        </p:blipFill>
        <p:spPr>
          <a:xfrm>
            <a:off x="5557680" y="2473200"/>
            <a:ext cx="22100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Process Wri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1547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rict chronological or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f the steps described are repeated, the same outcome should always be achieve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xed orde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larity extremely importa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ransitions essent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image002"/>
          <p:cNvPicPr/>
          <p:nvPr/>
        </p:nvPicPr>
        <p:blipFill>
          <a:blip r:embed="rId1"/>
          <a:stretch/>
        </p:blipFill>
        <p:spPr>
          <a:xfrm>
            <a:off x="5715000" y="4267080"/>
            <a:ext cx="1774800" cy="221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hour%20glass"/>
          <p:cNvPicPr/>
          <p:nvPr/>
        </p:nvPicPr>
        <p:blipFill>
          <a:blip r:embed="rId2"/>
          <a:stretch/>
        </p:blipFill>
        <p:spPr>
          <a:xfrm>
            <a:off x="1600200" y="4267080"/>
            <a:ext cx="1579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wo Types of Process Writ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518292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struc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ables readers to perform a pro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recipe, a handout, an operating manual are examples of instruction wri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bject of sentences is “you” understood; speak directly to read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6" descr="0452279232"/>
          <p:cNvPicPr/>
          <p:nvPr/>
        </p:nvPicPr>
        <p:blipFill>
          <a:blip r:embed="rId1"/>
          <a:stretch/>
        </p:blipFill>
        <p:spPr>
          <a:xfrm>
            <a:off x="6024600" y="1598760"/>
            <a:ext cx="2144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Process 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urpose is to help reader understand how a process is carried ou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 either 1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person or 3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person; not second person or imperative moo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y be in present or past tense, depending on whether the writer is explaining a process that takes place regularly or one that occurred in the past, and on whether the writer or someone else carried out the proces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5" descr="process"/>
          <p:cNvPicPr/>
          <p:nvPr/>
        </p:nvPicPr>
        <p:blipFill>
          <a:blip r:embed="rId1"/>
          <a:stretch/>
        </p:blipFill>
        <p:spPr>
          <a:xfrm>
            <a:off x="304812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455760" y="303120"/>
          <a:ext cx="8226360" cy="5586480"/>
        </p:xfrm>
        <a:graphic>
          <a:graphicData uri="http://schemas.openxmlformats.org/drawingml/2006/table">
            <a:tbl>
              <a:tblPr/>
              <a:tblGrid>
                <a:gridCol w="1523880"/>
                <a:gridCol w="3274920"/>
                <a:gridCol w="342756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 the chemicals in the tray, I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habitual process performed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photographers place the chemicals in the tray, they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abitual process performed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d the chemicals in the tray, I turned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cess performed in the past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the photographer placed the chemicals in the tray, she turned out the lights in the darkroom.”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process performed in the past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Process Wr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69752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ge writing for science, literature, history, or any other su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process writing to persuade or to infor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should have a clear thesis statement that identifies the process and tells why it is perform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underwood"/>
          <p:cNvPicPr/>
          <p:nvPr/>
        </p:nvPicPr>
        <p:blipFill>
          <a:blip r:embed="rId1"/>
          <a:stretch/>
        </p:blipFill>
        <p:spPr>
          <a:xfrm>
            <a:off x="5715000" y="4191120"/>
            <a:ext cx="2438280" cy="2023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hv_persuasion"/>
          <p:cNvPicPr/>
          <p:nvPr/>
        </p:nvPicPr>
        <p:blipFill>
          <a:blip r:embed="rId2"/>
          <a:stretch/>
        </p:blipFill>
        <p:spPr>
          <a:xfrm>
            <a:off x="1066680" y="4572000"/>
            <a:ext cx="2152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ing a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72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eep reader’s needs in min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lain reasons for performing ste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cribe unfamiliar materials or equip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fine 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arn readers of possible problems they may encou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void ambiguity or surpri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void unnecessary shifts in tense, person, voice and moo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5" descr="reader"/>
          <p:cNvPicPr/>
          <p:nvPr/>
        </p:nvPicPr>
        <p:blipFill>
          <a:blip r:embed="rId1"/>
          <a:stretch/>
        </p:blipFill>
        <p:spPr>
          <a:xfrm>
            <a:off x="5486400" y="15238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trans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list of transitions on page 43 of our textboo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fically useful are such transitions a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irst, second, meanwhile, after this, next, then, at the same time, when you have finished, and fina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ransitions to establish sequential and chronological relationships between steps in proc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1:34:55Z</dcterms:created>
  <dc:creator>Steven Federle</dc:creator>
  <dc:description/>
  <dc:language>en-US</dc:language>
  <cp:lastModifiedBy>shmurray</cp:lastModifiedBy>
  <dcterms:modified xsi:type="dcterms:W3CDTF">2011-06-15T16:18:52Z</dcterms:modified>
  <cp:revision>7</cp:revision>
  <dc:subject/>
  <dc:title>The Process Essay</dc:title>
</cp:coreProperties>
</file>